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98B-4CCC-4400-8DC3-3A0C723F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21B-BBEA-4CAF-9C5F-1CE3B32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548-C1E5-4748-B518-C1892D4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676-5CA0-4432-A758-2274CF9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515-A301-4BB8-9626-FE60013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5B2-DCC8-4C1A-BB31-CA94DEC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E99-14DD-478B-A219-D310565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AF6-1B8B-4168-9A03-121B0DA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975-6026-489C-982C-E54BFEF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836-C4F0-416D-92DA-8CDDE16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1F6-DB01-454D-910A-CC0C6DC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00E-6A12-4501-91C5-A7DE9EC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F8E-8966-4B5E-89AF-C0B86BB37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st Participle used as Object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ought the battl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my watch 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 didn’t know what time it w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nd two of the windows brok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heir buildings constru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way to look un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n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raditional materials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is to B what C is to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言正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29840" y="31993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to them what fish is to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rtain 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erta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certain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certai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ust be some mis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member reading about him in some magaz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7846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pref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fer something tha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rather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 like 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terested i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feel happy 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stan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get very excited abo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5:10:21Z</dcterms:modified>
  <cp:revision>2</cp:revision>
  <dc:subject/>
  <dc:title>PowerPoint Presentation</dc:title>
</cp:coreProperties>
</file>